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39E-771A-42B2-8CE0-0C1F7367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03E-5C81-4F6A-A259-3141A02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0C9-8262-4EDD-81A2-ADDE7642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D61-9710-4729-9BAD-6D3EB49F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59C-8D48-4D8C-BA75-7295DDE4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D39-CD80-4812-9650-11C8F29E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11B-933B-44B8-95C1-C14C326D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0BE-EE64-4889-BD8A-F0CB444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A9C-73BA-4E02-87FB-B57FDC6B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A0F-6603-4C10-8B5D-1DC37BA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8F8-0F65-4514-9164-EAD8FB9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A04-C0AD-42EC-AE5C-19E08B82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FB2-9F9E-4E92-AC3C-EB950910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13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Janu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5146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nitial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40160" y="3157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6 Week Programme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126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Weeks 1 &amp; 2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:  Shadow practice and feed with no movement  (3 x 20 reps of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½ court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Weeks 3 &amp; 4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:  Feed with no movement and feed with movement (3 x 20 reps of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½ court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Weeks 5 &amp; 6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:  Feed with movement (3 x 20 reps) and continuous rally (3 x 2 m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½ court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Train 3 x per we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py this info. into page 26 of your course notes (change to suit your stage of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844640"/>
            <a:ext cx="81536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y the end of this lesson you should all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w to describe a programm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y changes or adaptations may have to be made to the programme you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these changes/adaptations migh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w to monitor the effectiveness of a programm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40160" y="3157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daptations/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Write down 3 reasons why you think you may need to adapt or change your program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so write down how you might do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ime – 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onitoring Programme of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989000"/>
            <a:ext cx="851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do we monitor the effective of our P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ining 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id programme re-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nal and external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onitoring Programme of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2060640"/>
            <a:ext cx="8512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ining diary – what would we put in our di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-test – how would this highlight improv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nal feedback – how would we use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ternal feedback – how would we use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AB Part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182880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7 – How model performer &amp; stages of learning link to 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8 – 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9 – Adaptations/changes –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10 – Adaptations/changes –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11 – Monitoring 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4000" y="1268280"/>
            <a:ext cx="842472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art 3 of the NAB will take place under exam conditions on Wednesday 20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January so ensure that you are well prepared for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ou must get 60% in the NAB to pass.  If you fail you must do a re-sit and this can be time consu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E Prelim – This will cover Preparation of the Body (hockey) and Skills &amp; Techniques (badmin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10-01-12T14:35:26Z</dcterms:modified>
  <cp:revision>39</cp:revision>
  <dc:subject/>
  <dc:title>Intermediate PE</dc:title>
</cp:coreProperties>
</file>